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5A19-4BA7-4CD7-BE8D-76894DE4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3D0-30EE-4F23-A3A9-14BA09AD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4BE-0638-43C3-B5E9-866D7F1D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5CCA-67A7-406D-AC8C-3A1AD72E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F612-732F-4E8E-8114-EBF53934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C0D-4CE9-4993-8C16-250FE6AA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10A9-B816-480D-BBE6-B4F58333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8F3-D006-4812-B449-918797DF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648-693C-4EC2-A60F-9C7BFD25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8722-289D-468C-B674-4DAFC72A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BE7-0701-41CB-A7E1-8F802528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F78-0867-4865-AC65-1C635410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DC45-E116-4B12-8C72-ED50243D0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Planes, Direction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a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Cj04315440000[1]"/>
          <p:cNvPicPr/>
          <p:nvPr/>
        </p:nvPicPr>
        <p:blipFill>
          <a:blip r:embed="rId1"/>
          <a:stretch/>
        </p:blipFill>
        <p:spPr>
          <a:xfrm>
            <a:off x="3657600" y="228600"/>
            <a:ext cx="2286000" cy="187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dominal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dominal is a LARGE cavity and is divided into regions or sec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method: quadrants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Q, LUQ, LLQ, RL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Pj04023220000[1]"/>
          <p:cNvPicPr/>
          <p:nvPr/>
        </p:nvPicPr>
        <p:blipFill>
          <a:blip r:embed="rId1"/>
          <a:stretch/>
        </p:blipFill>
        <p:spPr>
          <a:xfrm>
            <a:off x="7086600" y="4191120"/>
            <a:ext cx="1492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epigas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the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umbil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the umbilicus or belly bu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hypogas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ow the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HM00249_0000[1]"/>
          <p:cNvPicPr/>
          <p:nvPr/>
        </p:nvPicPr>
        <p:blipFill>
          <a:blip r:embed="rId1"/>
          <a:stretch/>
        </p:blipFill>
        <p:spPr>
          <a:xfrm>
            <a:off x="6019920" y="3809880"/>
            <a:ext cx="17906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lum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the spinal 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ingu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the gr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CHM00260_0000[1]"/>
          <p:cNvPicPr/>
          <p:nvPr/>
        </p:nvPicPr>
        <p:blipFill>
          <a:blip r:embed="rId1"/>
          <a:stretch/>
        </p:blipFill>
        <p:spPr>
          <a:xfrm>
            <a:off x="5638680" y="1905120"/>
            <a:ext cx="20876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ing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W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 would be difficult to apply these terms to the human body and other directional terms have been appli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MCj03910820000[1]"/>
          <p:cNvPicPr/>
          <p:nvPr/>
        </p:nvPicPr>
        <p:blipFill>
          <a:blip r:embed="rId1"/>
          <a:stretch/>
        </p:blipFill>
        <p:spPr>
          <a:xfrm>
            <a:off x="3581280" y="4191120"/>
            <a:ext cx="178272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Pl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ary lines drawn through the body @ various parts to separate the body into sec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j0293234"/>
          <p:cNvPicPr/>
          <p:nvPr/>
        </p:nvPicPr>
        <p:blipFill>
          <a:blip r:embed="rId1"/>
          <a:stretch/>
        </p:blipFill>
        <p:spPr>
          <a:xfrm>
            <a:off x="3505320" y="411480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Main Body Pl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Transverse plane- horizontal and divides the body into top half and bottom hal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Midsagittal-median-divides body into right and left sides.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Cj03970600000[1]"/>
          <p:cNvPicPr/>
          <p:nvPr/>
        </p:nvPicPr>
        <p:blipFill>
          <a:blip r:embed="rId1"/>
          <a:stretch/>
        </p:blipFill>
        <p:spPr>
          <a:xfrm>
            <a:off x="4114800" y="3581280"/>
            <a:ext cx="8874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Body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Frontal –divides the body into  front and back s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MCj04338890000[1]"/>
          <p:cNvPicPr/>
          <p:nvPr/>
        </p:nvPicPr>
        <p:blipFill>
          <a:blip r:embed="rId1"/>
          <a:stretch/>
        </p:blipFill>
        <p:spPr>
          <a:xfrm>
            <a:off x="3505320" y="32767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Ca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ces within the body that contains vital orga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CPE07305_0000[1]"/>
          <p:cNvPicPr/>
          <p:nvPr/>
        </p:nvPicPr>
        <p:blipFill>
          <a:blip r:embed="rId1"/>
          <a:stretch/>
        </p:blipFill>
        <p:spPr>
          <a:xfrm>
            <a:off x="2590920" y="2819520"/>
            <a:ext cx="3678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Main Body Ca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Dorsal cavity is one long, continuous cavity located on the back of the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o known as the posterior or back por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CPE07304_0000[1]"/>
          <p:cNvPicPr/>
          <p:nvPr/>
        </p:nvPicPr>
        <p:blipFill>
          <a:blip r:embed="rId1"/>
          <a:stretch/>
        </p:blipFill>
        <p:spPr>
          <a:xfrm>
            <a:off x="5281560" y="4267080"/>
            <a:ext cx="21146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Type of Body C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ral cavities are larger than the dorsal cavities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known as the anterior or front cav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Thorac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Abdo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Pelv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Orbital-ey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 Nasal-n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 Buccal-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9:19:33Z</dcterms:created>
  <dc:creator>Technology</dc:creator>
  <dc:description/>
  <dc:language>en-US</dc:language>
  <cp:lastModifiedBy>Krista</cp:lastModifiedBy>
  <dcterms:modified xsi:type="dcterms:W3CDTF">2011-01-11T05:13:07Z</dcterms:modified>
  <cp:revision>12</cp:revision>
  <dc:subject/>
  <dc:title>Body Planes, Direction,  and Cavities</dc:title>
</cp:coreProperties>
</file>